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81C-3C18-412F-A655-D4436F6B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2C1-A8BB-4CD1-B6FC-2F8AD3C0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C4-98D3-4CD1-9EEF-A5840F58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59B-B7F4-49E4-9781-C63A2724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932-073E-40A6-86E3-8635FB3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B85-6387-4D2A-BB07-1EE0904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CCD-893C-494B-97A2-22A6819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1EF-2DA7-4DD2-A525-C3BBDB3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399-C433-4416-928B-E27C8A97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1D1-E7CB-4485-BABE-4C32C338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E20-DB07-4D43-8F16-6B1FBEF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553-6E6A-4585-96D9-8898DDD8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169-FA12-4B02-878E-59F00FE1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63760"/>
            <a:ext cx="7467840" cy="19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64771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041720"/>
            <a:ext cx="1066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39152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22:00Z</dcterms:modified>
  <cp:revision>41</cp:revision>
  <dc:subject/>
  <dc:title>PowerPoint Presentation</dc:title>
</cp:coreProperties>
</file>